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E64-3E94-486D-8D31-9A294ECB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C8C-B9E0-489A-BCAD-C1B2CB87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7F6-34AF-4A9E-8FCD-25C9E6FF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E9A-83D1-49DA-AA91-C9527EF9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88D9-E36F-4008-AC32-87FC77E9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114C-EFA6-4B36-9CE2-B5EA8D1A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69F8-9165-479B-8211-584DEBBE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470A-CF8F-40F0-9BEC-EDEABB93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E25C-1488-48A1-92F1-AF42FF29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506A-2F29-482E-AD83-8ED5469D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96FB-E404-4B0C-A625-4AE86C0B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266-2703-4F72-842B-9DD7D0A1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10D5-8419-4700-B610-2B551D91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7F28-2E6B-4D5C-833F-05CFA9B0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18DD-7111-4421-9FDE-4A68BD7B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5366-BD50-41AB-B1B6-4CC571F1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72CB-0C3B-4731-8F1F-47E421BF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2E7F1-53B0-4D1D-ABC2-F5A72206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23799-66DA-4A64-A76D-35356973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E2C74-7BD1-4FFA-B312-39873B05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CC6D0-129D-44CC-8260-9C6B6C3B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42B03-7960-4538-A197-29D0F4BA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EEE-FCA1-4A17-8C16-57BBD829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95A6C-631C-49A7-8194-52199CC3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53409-BDA2-4C8B-8CD8-BAD34C74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F6ACA-0D4B-4BFF-BF92-FA9716E4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06DB6-FB89-455D-B0E3-E20F09C7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5AB15-EF5C-463E-A8D5-411D7A11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2BD97-B7BD-4B79-A1BE-9A2A505F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B8A87-2239-49F5-B88B-69D37264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8C82B-176A-4B44-9CCB-B158EB5D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1F74B7-B919-40E0-8747-CC79FFA2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7B574-4EE4-45DE-902A-F709800B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DD3-FA15-47CB-AF4F-4A12A538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F96DD-E0EB-41D1-ACE3-62DF388F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F5F5E6-A363-4419-893D-07E75EA9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6CDB9E-4802-4E5C-BF5C-3DFC5FCA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8CD39B-AFF9-4A9A-AA78-066A34AC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36A0E6-AC28-41C5-AF59-1000216B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7F5634-FA63-4246-87DC-BD480180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F16C6-0704-4C41-B9D0-1B92FFB2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B7460-EE09-405E-884B-CD5F4385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00958-60A2-44A4-8FC9-9DDFE526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AA9B8-BD4F-4B2B-93E8-01212FE7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402-B7EE-4DAE-A1BA-616D799D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AF06C-5C05-4F2A-BA85-16DF8B6A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5A36D0-3A61-4E78-838F-01D0EA0F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8C119-1DE0-44AE-895E-5C4565C7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01FFEB-5B60-4980-9B36-20DB6F16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5AED1-EAD0-4A1F-B56E-4ABA12A6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BDA9F5-B155-4593-9278-8977513D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8A709-126B-4907-B996-9518399A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08499-8367-468C-A53F-D11D64F9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666A8-8F3A-45AC-B2F3-1C6A665D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94F2F-87B9-4FAD-B1FD-F87101E3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689-ECFC-44C5-BC60-A19A837A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1CC17-1214-47E6-A022-D526FC7C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7F09E-E34E-4371-BC6E-45D5DF52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18BE9-10EF-4A0D-AFE3-FD0CEF44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6FFB1-B44C-4043-A5AD-8D2F8E5A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76006-91BD-447C-BDC6-36C97F3A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B0EC8-3533-4C08-BAD2-9F978174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4B4C9-5321-42C6-B833-30CEC83D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1FF45-E248-429E-9B8F-38BFF667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F135B-1FA1-4293-A2E2-41B8A8B9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E8E41-555F-4FD7-BD19-FE63D1FD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470-F9C9-4215-BF0A-21B51778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4F3AD-22A3-4154-A73A-0E35C3BF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FEF9C-AB65-453C-906A-441D2780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B299B-0C92-47E0-BCB1-BF4FDF12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25CD47-0F89-4D4F-B178-7C776D82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1A9F7-2624-446A-BDE1-7CAF3703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8D3B65-0918-480E-9A02-28397CC8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C551BC-800F-4F7E-8387-80FB4FBD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DC805-81A6-415D-8374-3167CF90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FD664-D47A-4706-83E7-01E5B246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9E876-E830-4483-9FDC-9FB9D239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86F-8D46-4903-9437-721FA348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179D42-6F23-4EA2-B14F-F0B747F3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8C10B5-21F1-491C-B240-556F2518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C9A487-23F2-4876-BE16-62E86A1F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0DCFA2-50C2-4378-AEEC-780C0F8C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C0B9B4-D032-4973-9F4D-8F366AA3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C40C0-4B2A-4524-8D31-9C90D395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198EF-8A77-450D-8099-69A09FDB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47BF7-35BD-4420-B58C-F00AAC3E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1A4FA-19C4-4E3E-9038-FD93A1D2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19A6E-43C1-45FA-AD15-2B3A9881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D8D-6CB3-48F1-95C4-4953D65B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DE2CE-BD0B-47E6-821F-6AE3F5BE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953C1-6104-4D70-BB2F-C253FB0C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35511-7029-4D69-A305-56230D3D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CFBFB-C06C-4550-A3AD-DAD9D707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F271C-3378-4D92-A381-C44B238D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6E907-4C9F-4C09-9E29-36EC9EB4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D5ACB-D266-46E0-9459-381653DA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7CD8-E577-47C8-BAE8-CD2A1717F7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1BC5-A371-44F1-A9D4-D75C225E5EDE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D73C-4D5B-42F6-B8B0-565319D987D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483F-F820-4940-831D-2DABB70B44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8263-00E5-4B12-A098-D0C2FD9A8C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64EE-85F8-4F11-A6E9-1A21DAA70074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B386-406A-4096-805B-6791EEE3C69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7E20-DB5A-4031-9751-2BC320A7F2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ddc9d"/>
                </a:solidFill>
                <a:latin typeface="Tw Cen MT"/>
              </a:rPr>
              <a:t>INTERMEDIATE 2 ENGLISH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w Cen MT"/>
              </a:rPr>
              <a:t>What you need to do to pas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a5038"/>
                </a:solidFill>
                <a:latin typeface="Tw Cen MT"/>
              </a:rPr>
              <a:t>In May, you will sit two exam papers as your final exam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ritical Essay paper – 1 hour 30 mins (50% of your final grade.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lose Reading paper – 1 hour (50% of your final grade.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t before you sit these, you need to pass your NABs firs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a5038"/>
                </a:solidFill>
                <a:latin typeface="Tw Cen MT"/>
              </a:rPr>
              <a:t>What are NAB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NABs (National Assessment Bank tasks) are exam tasks which test your competence and to check that you’re ready to sit the final exa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ese are pass/fail assessed – </a:t>
            </a:r>
            <a:r>
              <a:rPr b="1" lang="en-GB" sz="2900" spc="-1" strike="noStrike">
                <a:solidFill>
                  <a:srgbClr val="000000"/>
                </a:solidFill>
                <a:latin typeface="Tw Cen MT"/>
              </a:rPr>
              <a:t>you will not get a grade for your NAB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ey </a:t>
            </a:r>
            <a:r>
              <a:rPr b="1" lang="en-GB" sz="2900" spc="-1" strike="noStrike">
                <a:solidFill>
                  <a:srgbClr val="000000"/>
                </a:solidFill>
                <a:latin typeface="Tw Cen MT"/>
              </a:rPr>
              <a:t>do not 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ntribute towards your final grade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f you fail a NAB, you will get another chance to resit them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a5038"/>
                </a:solidFill>
                <a:latin typeface="Tw Cen MT"/>
              </a:rPr>
              <a:t>How many and what types of NAB will I sit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80000"/>
              </a:lnSpc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Tw Cen MT"/>
              </a:rPr>
              <a:t>Close Reading  </a:t>
            </a: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- this is similar to the final Close Reading paper you will sit in May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lnSpc>
                <a:spcPct val="80000"/>
              </a:lnSpc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Tw Cen MT"/>
              </a:rPr>
              <a:t>Textual Analysis </a:t>
            </a: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– where you read an unseen poem or other form of fiction and answer questions on the techniques used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lnSpc>
                <a:spcPct val="80000"/>
              </a:lnSpc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Tw Cen MT"/>
              </a:rPr>
              <a:t>Personal Study Unit </a:t>
            </a:r>
            <a:r>
              <a:rPr b="0" lang="en-GB" sz="2700" spc="-1" strike="noStrike" u="sng">
                <a:solidFill>
                  <a:srgbClr val="000000"/>
                </a:solidFill>
                <a:uFillTx/>
                <a:latin typeface="Tw Cen MT"/>
              </a:rPr>
              <a:t>– </a:t>
            </a: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this is where you read a text of your choosing which has been accepted by your teacher, and then answer a task on it under exam conditions. (you are allowed to take notes and your text into the exam.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lnSpc>
                <a:spcPct val="80000"/>
              </a:lnSpc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Tw Cen MT"/>
              </a:rPr>
              <a:t>Writing</a:t>
            </a:r>
            <a:r>
              <a:rPr b="1" lang="en-GB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– you will write either an argumentative, creative or discursive essay on a topic of you choosing (you are allowed to take notes into the exam.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a5038"/>
                </a:solidFill>
                <a:latin typeface="Tw Cen MT"/>
              </a:rPr>
              <a:t>Literature – what does this paper require me to do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You will answer a task from two different sections of the paper (Drama/Prose/Poem/Media etc.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Each essay will each be graded out of 25, before being added up and calculated out of 50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Your grade will then fall into either of the following banding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8a5038"/>
                </a:solidFill>
                <a:latin typeface="Tw Cen MT"/>
              </a:rPr>
              <a:t>The grade you will achieve will be either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w Cen MT"/>
              </a:rPr>
              <a:t>Grade A 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(Band I)  20 - 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w Cen MT"/>
              </a:rPr>
              <a:t>Grade B 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(Band II)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16 -19 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w Cen MT"/>
              </a:rPr>
              <a:t>Grade C  (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and III) 12-1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w Cen MT"/>
              </a:rPr>
              <a:t>Grade D 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(Band IV)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8-11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Close Reading – What does this paper require me to do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You will read an unseen passage – normally non-fiction such as a broadsheet newspaper article or travel writ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You will then answer questions, which total 30 mark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You will answer different types of questions, e.g Understanding (U), Analysis (A) and Evaluation (E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You need to achieve at least 15 marks in order to pass the Close Reading pap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a5038"/>
                </a:solidFill>
                <a:latin typeface="Tw Cen MT"/>
              </a:rPr>
              <a:t>What are the Performance Criteria for Critical Essays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s appropriate to task, the response demonstrates secure understanding of key elements,central concerns and significant details of the  tex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response explains accurately and in detail ways in which relevant aspects of structure/style/ language contribute to meaning/effect/impac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response reveals clear engagement with the text(s) or aspects of the text(s) and stated or implied evaluation of effectiveness, substantiated by detailed and relevant evidence from the text(s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ructure, style and language, including use of appropriate critical terminology, are deployed to communicate meaning clearly and develop a line of thought which is sustainedly relevant to purpose; spelling, grammar and punctuation are sufficiently accurat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39:11Z</dcterms:created>
  <dc:creator> </dc:creator>
  <dc:description/>
  <dc:language>en-US</dc:language>
  <cp:lastModifiedBy>Your User Name</cp:lastModifiedBy>
  <dcterms:modified xsi:type="dcterms:W3CDTF">2011-05-30T14:50:37Z</dcterms:modified>
  <cp:revision>3</cp:revision>
  <dc:subject/>
  <dc:title>Intermediate 2 English</dc:title>
</cp:coreProperties>
</file>